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F9B-2E1E-4727-81DD-38A7D672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A84-F73F-4586-B0CE-00D0337C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894-E503-4D1D-81C0-791BFAB5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AEF-CB97-4FC0-9935-927A2A6B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76E-6100-4DCE-AB99-3296FF63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C81-B166-4BC3-ABE9-A1238CAD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7BE-7181-4147-9BA6-16E67C1D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129-170A-49E8-AA3B-7D49F39F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788-5755-4F53-ACA7-68CF77E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3C9-25A3-4156-83C6-97E1A56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0A1-2E82-4465-876E-F2B5E2A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936-0960-494F-8A2E-F81FA5A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EA09-E233-49FC-B5B0-F3565E31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lary Negoti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Off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572000" cy="55627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ff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anies make fair and realistic salary 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in their best interest to make “low ball” 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ant to hire the best candidate for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mployee turnover is an added expense to the bottom line for the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 = the “Offer” should be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ff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2438280"/>
            <a:ext cx="8763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objections to higher salary off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lear about your ow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fident in your abilities, skills, professional experience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rebuttals to anticipate employers possible “excuses” for not wanting to raise  salar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Salar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pone this discussion as long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salary in future term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was to stay in my current positions the value of my compensation package would b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consider a salary range of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26669" r="0" b="833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s not about winning, but about establishing mutual interest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where you can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your possibl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ly reiterate why you should be compensated at a greater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unter Off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p:transition advTm="3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O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4190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and determine your employer’s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ll about mon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underlying issues that motivated you to move be cha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at your loyalty will now be suspect and an attitude of negativity about your choice to leave may b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31240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eel desperate to finish a project but may not be loyal to you and made the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ally want to work for someone who only increased your salary because you were lea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is offer as a complement and mov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13372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offers are offers from your current employers to remain after you have announced intention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and Good L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advTm="3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Salary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ng Your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/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52960" y="3429000"/>
            <a:ext cx="3191040" cy="3429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al of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ch an agreement that will maximize your potential earnings and provide for the employer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win-win situation with an employer with whom you can have a long term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9703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Salary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need to know before you begin salary negoti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market value – what are comparable salaries and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similar positions in the industry pay in your geograph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do current employees 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fit in the organization- is this an entry level, management or an executiv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Salary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impact supply and deman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ETITIO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urrent in the industry - targeting local and national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employers who compete for the best candidates and offer top salaries and superior benefits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05520" y="3525840"/>
            <a:ext cx="4038480" cy="3332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lculating Your         Wor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s to Search fo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associations – membership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ers and executive search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government labour reviews/ The Bureau of Labou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bes, The Wall Street Journal, Business Week, 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Compensation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3124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ng bo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3124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re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living ra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/Black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nity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Care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13372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can equal 20%-30% of your total  compensation package. What’s inclu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6:09:09Z</dcterms:created>
  <dc:creator/>
  <dc:description/>
  <dc:language>en-US</dc:language>
  <cp:lastModifiedBy>Lokesh</cp:lastModifiedBy>
  <dcterms:modified xsi:type="dcterms:W3CDTF">2008-02-05T17:24:58Z</dcterms:modified>
  <cp:revision>0</cp:revision>
  <dc:subject/>
  <dc:title/>
</cp:coreProperties>
</file>